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A70-A109-4BAD-B167-F4E52C4D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5FF-4B9B-4E7E-BD0B-8AA84A2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7C3-AE38-483A-8C32-824DA8FE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AB7-4357-45A5-A4F6-4A3CAD46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9CD-C614-4CC8-9562-D3F13B09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28D-32F2-4D4C-BD8C-51797467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BCC-7936-431F-9E01-26E09F7F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A80-3529-4388-ACCC-87336F66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46F-8B65-4473-9261-35E2C193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96C-949E-4C77-942B-BF77647A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FAC-5ECC-4140-8C3B-9EE7DC3F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09E-D553-4C7B-8182-97E11209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E7A2-A182-4D3B-A671-268ADA5F3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pemberto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762120"/>
            <a:ext cx="533376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6b0812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ca-Cola</a:t>
            </a:r>
            <a:endParaRPr b="0" i="1" lang="en-US" sz="1800" spc="1" strike="noStrike">
              <a:ln w="12600">
                <a:solidFill>
                  <a:srgbClr val="6b0812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 flipV="1" rot="10742400">
            <a:off x="6656400" y="4561920"/>
            <a:ext cx="1628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ndrew O’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2-21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erio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omputer#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209680" cy="156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934320" y="2438280"/>
            <a:ext cx="2209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5334120"/>
            <a:ext cx="5943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play Music,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Blues Dream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Feb. 27, 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emberton"/>
          <p:cNvPicPr/>
          <p:nvPr/>
        </p:nvPicPr>
        <p:blipFill>
          <a:blip r:embed="rId1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3886200"/>
            <a:ext cx="556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8359800">
            <a:off x="3657600" y="5181120"/>
            <a:ext cx="99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3352680"/>
            <a:ext cx="5790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327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ca-Col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b 23,2012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pembert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548640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-Cola was a drink that was made for the public in 18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ohn Pe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 named John Pemberton came up with the idea of the drink after having a soda based drink for lu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85 Pemberton mixed a series of syrups to make the drink known as Coca-C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John didn’t come up with the name his book keeper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was Born in 18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got a medical degree at the age of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99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ca-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Coca-Cola was thought of in 186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named after a soda based dr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ade from cocaine and kola n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keeper came up with the name Coca-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rink was made in 18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7024800">
            <a:off x="7047720" y="4305960"/>
            <a:ext cx="688680" cy="183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8875800">
            <a:off x="8076600" y="57909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7Z</dcterms:created>
  <dc:creator>install</dc:creator>
  <dc:description/>
  <dc:language>en-US</dc:language>
  <cp:lastModifiedBy>install</cp:lastModifiedBy>
  <dcterms:modified xsi:type="dcterms:W3CDTF">2012-03-09T15:00:40Z</dcterms:modified>
  <cp:revision>8</cp:revision>
  <dc:subject/>
  <dc:title>Slide 1</dc:title>
</cp:coreProperties>
</file>